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891-E292-432B-90C3-11350B5F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7E9-2ED7-49CC-B107-A7FBFD69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182-3BEB-4038-8009-20DDA5CF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666-A47C-48D7-8688-4CDD7BB7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BC3-6B45-4B46-BAA7-3DF8E338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00A-504C-4597-95C8-2AABF307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CFC-3F41-4E82-8690-F12C3217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A4F-0EF5-46B9-B09E-88BC3209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095-A0D0-4AB2-A5FA-CC245D7A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F2C-5555-4665-BE9E-A2E869DC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80C-EB82-48D0-BF40-603C5F66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593A-0FAA-4CF2-BB8E-5FAC145D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EF52-9D5F-49A1-B2B7-64B5C20C2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o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instrument that measures the tem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; m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th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2309760" cy="183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4572000"/>
            <a:ext cx="39204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562720" y="4114800"/>
            <a:ext cx="151272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467480" y="1676520"/>
            <a:ext cx="1297080" cy="1950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733920" y="4952880"/>
            <a:ext cx="14144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75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used in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nyms: liquid 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yms: 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word: 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ection: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lable: Mer cu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273060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46"/>
            </a:gs>
            <a:gs pos="100000">
              <a:srgbClr val="cc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flow of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bre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draf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cin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Greatly inter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Awes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b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Fasc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Fas cin at 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1803600" cy="1949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1673280" cy="266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934320" y="1219320"/>
            <a:ext cx="14824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75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not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rance or dazed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Dazed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a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not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hyp no t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1907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8-12-17T16:52:09Z</dcterms:modified>
  <cp:revision>5</cp:revision>
  <dc:subject/>
  <dc:title>PowerPoint Presentation</dc:title>
</cp:coreProperties>
</file>